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8.pct" ContentType="image/x-pict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D40F-41D9-45B0-AAA3-025D7149A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DE8C-1B5E-46B2-87B6-35B5EC2CF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A8C3-9E5F-4F8E-903E-085593F0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DC6A-B3A8-4CEB-8A1B-CB40BAC8A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B731-FDCE-482C-8719-53763A0B1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FB33-B0DD-4408-8805-8461533AA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D66A-47A4-4EC2-BBA7-8E58AE9F3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8750-B60D-4F26-B200-3BEC9EE2A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C65C-455E-436C-AE75-86DB2CAD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110E-7626-4633-BCF8-4116A88C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9C9D-E996-4360-9FF0-EB6F725C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D1E-2323-4E09-9A2A-892388EA2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E924-609E-4968-A77B-21D9ED8F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39E4-FB47-43E7-97FF-E39C0BBE9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8"/>
          <p:cNvSpPr/>
          <p:nvPr/>
        </p:nvSpPr>
        <p:spPr>
          <a:xfrm>
            <a:off x="233640" y="4096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End of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4" descr="bttn_exit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8" descr="bttn_next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33640" y="4096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bttn_prev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ttn_exit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ttn_next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End of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838080" y="1828800"/>
            <a:ext cx="6873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y Reconstruction en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the successes and failures of Re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572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4"/>
          <p:cNvSpPr/>
          <p:nvPr/>
        </p:nvSpPr>
        <p:spPr>
          <a:xfrm>
            <a:off x="990720" y="5257800"/>
            <a:ext cx="72388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 flipH="1" rot="10792800">
            <a:off x="864000" y="1218600"/>
            <a:ext cx="7391520" cy="1904760"/>
          </a:xfrm>
          <a:prstGeom prst="upArrowCallout">
            <a:avLst>
              <a:gd name="adj1" fmla="val 35072"/>
              <a:gd name="adj2" fmla="val 32212"/>
              <a:gd name="adj3" fmla="val 27593"/>
              <a:gd name="adj4" fmla="val 77709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ffffff"/>
              </a:gs>
            </a:gsLst>
            <a:lin ang="26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1143000" y="53784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By balancing the needs of the North and the South, 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Congress’ compromise marked the end of Reco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66680" y="13716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gress resolved the disputed election of 1876 with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mpromise of 187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5800" y="3200400"/>
            <a:ext cx="807732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utherford B. Hay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me Pres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aining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federal troops were withdra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the So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outherner was appoint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a powerful cabinet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outhern states were guaranteed federal subsid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uild railroads and improve their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ounded Rectangle 4"/>
          <p:cNvSpPr/>
          <p:nvPr/>
        </p:nvSpPr>
        <p:spPr>
          <a:xfrm>
            <a:off x="1843200" y="5153040"/>
            <a:ext cx="54864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4"/>
          <p:cNvSpPr/>
          <p:nvPr/>
        </p:nvSpPr>
        <p:spPr>
          <a:xfrm>
            <a:off x="4572000" y="2057400"/>
            <a:ext cx="373392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/>
          <p:cNvSpPr/>
          <p:nvPr/>
        </p:nvSpPr>
        <p:spPr>
          <a:xfrm>
            <a:off x="762120" y="2085840"/>
            <a:ext cx="3504960" cy="294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914400" y="1143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effects of Reconstruction changed life for many in the South and the rest of the 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0"/>
          <p:cNvSpPr/>
          <p:nvPr/>
        </p:nvSpPr>
        <p:spPr>
          <a:xfrm>
            <a:off x="914400" y="2284560"/>
            <a:ext cx="3276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For every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x-supported scho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rnized rail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variety of the South’s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572000" y="2293920"/>
            <a:ext cx="3733920" cy="34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For African Americ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African American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nited black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d educational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2209680" y="513864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For wo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economic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685800" y="2209680"/>
            <a:ext cx="777240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9"/>
          <p:cNvSpPr/>
          <p:nvPr/>
        </p:nvSpPr>
        <p:spPr>
          <a:xfrm>
            <a:off x="380880" y="1295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Civil War had a lasting effect 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ate and national poli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2514600"/>
          <a:ext cx="3657600" cy="25322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emocratic P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me the party of industrial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ociated with segregation in the 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38080" y="2514600"/>
          <a:ext cx="3505320" cy="266868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Republican P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me known as the party of Lincol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ociated with freeing the sl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me the party of big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Line 19"/>
          <p:cNvSpPr/>
          <p:nvPr/>
        </p:nvSpPr>
        <p:spPr>
          <a:xfrm>
            <a:off x="1066680" y="2971800"/>
            <a:ext cx="716292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0" y="2514600"/>
            <a:ext cx="0" cy="289548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9"/>
          <p:cNvSpPr/>
          <p:nvPr/>
        </p:nvSpPr>
        <p:spPr>
          <a:xfrm>
            <a:off x="457200" y="52578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ver time, Americans chose to let the South tend to its own affairs despite the price paid by newly freed sla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57200" y="1295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Civil War affected the balance of powe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tween the federal government and the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sus_ch31_s1_USMap"/>
          <p:cNvPicPr/>
          <p:nvPr/>
        </p:nvPicPr>
        <p:blipFill>
          <a:blip r:embed="rId1"/>
          <a:stretch/>
        </p:blipFill>
        <p:spPr>
          <a:xfrm>
            <a:off x="609480" y="2286000"/>
            <a:ext cx="3810240" cy="2476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hsus_ch12_s3_WhiteHouse"/>
          <p:cNvPicPr/>
          <p:nvPr/>
        </p:nvPicPr>
        <p:blipFill>
          <a:blip r:embed="rId2"/>
          <a:stretch/>
        </p:blipFill>
        <p:spPr>
          <a:xfrm>
            <a:off x="4734000" y="2362320"/>
            <a:ext cx="32670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45720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838080" y="1828800"/>
            <a:ext cx="746784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deeme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thern, white Democrat who returned to power after 18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utherford B. Hay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came President through the contested election of 187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mpromise of 1877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olved the contested presidential election of 1876 by giving Hayes the presidency in return for withdrawing the remaining federal troops from the S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2"/>
          <p:cNvSpPr/>
          <p:nvPr/>
        </p:nvSpPr>
        <p:spPr>
          <a:xfrm>
            <a:off x="1216080" y="2590920"/>
            <a:ext cx="70898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uption throughout the North and South became a more pressing issue. A financial collapse and the North’s unwillingness to maintain an eternal presence in the South eroded the reach of Re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ddition, a series of Supreme Court decisions gave the federal government less control over the South and ate away at the few protections African Americans had g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1216080" y="1828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and why did Reconstruction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SUS09_EQ_logoSmall.jpg"/>
          <p:cNvPicPr/>
          <p:nvPr/>
        </p:nvPicPr>
        <p:blipFill>
          <a:blip r:embed="rId1"/>
          <a:stretch/>
        </p:blipFill>
        <p:spPr>
          <a:xfrm>
            <a:off x="457200" y="18288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6"/>
          <p:cNvSpPr/>
          <p:nvPr/>
        </p:nvSpPr>
        <p:spPr>
          <a:xfrm flipH="1" rot="10792800">
            <a:off x="864000" y="1447200"/>
            <a:ext cx="7391520" cy="1904760"/>
          </a:xfrm>
          <a:prstGeom prst="upArrowCallout">
            <a:avLst>
              <a:gd name="adj1" fmla="val 35072"/>
              <a:gd name="adj2" fmla="val 32212"/>
              <a:gd name="adj3" fmla="val 27593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9"/>
          <p:cNvSpPr/>
          <p:nvPr/>
        </p:nvSpPr>
        <p:spPr>
          <a:xfrm>
            <a:off x="990720" y="16686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y 1872, matters other th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construction drew the nation’s att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0"/>
          <p:cNvSpPr/>
          <p:nvPr/>
        </p:nvSpPr>
        <p:spPr>
          <a:xfrm>
            <a:off x="1523880" y="3693960"/>
            <a:ext cx="678204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Immigration increas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the North and W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orruption and intrig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d become part of local and national govern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73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ational banks f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762120" y="2209680"/>
            <a:ext cx="7619760" cy="381024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533520" y="12952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wo-term President Grant was popular, but his administrations were marred by scand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066680" y="2422440"/>
            <a:ext cx="3124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tional scand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nt’s Vice President was in a scheme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teal profits from the railr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bers of Grant’s administration wer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uspected of corru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800600" y="2424240"/>
            <a:ext cx="3352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Local scand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Tweed Ring”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tole money from New York City’s treas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city officials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old contracts to their frien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cross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4557600" y="2971800"/>
            <a:ext cx="0" cy="259092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MPj04328550000[1]"/>
          <p:cNvPicPr/>
          <p:nvPr/>
        </p:nvPicPr>
        <p:blipFill>
          <a:blip r:embed="rId1"/>
          <a:srcRect l="6450" t="0" r="9683" b="4300"/>
          <a:stretch/>
        </p:blipFill>
        <p:spPr>
          <a:xfrm>
            <a:off x="6858000" y="4475160"/>
            <a:ext cx="1981080" cy="1697040"/>
          </a:xfrm>
          <a:prstGeom prst="rect">
            <a:avLst/>
          </a:prstGeom>
          <a:ln w="0">
            <a:noFill/>
          </a:ln>
        </p:spPr>
      </p:pic>
      <p:sp>
        <p:nvSpPr>
          <p:cNvPr id="125" name="Rounded Rectangle 4"/>
          <p:cNvSpPr/>
          <p:nvPr/>
        </p:nvSpPr>
        <p:spPr>
          <a:xfrm>
            <a:off x="838080" y="1447920"/>
            <a:ext cx="75819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838080" y="160020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conomic uncertainty in the 1870s eroded the North’s resolve to sustain Re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447920" y="3052800"/>
            <a:ext cx="609588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73 one of the nation’s mos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influential banks f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bank had overextended loans to the railroad indust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ationwide loss of jobs, more bank failures,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conomic depression in the Nor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838080" y="2209680"/>
            <a:ext cx="7543800" cy="396252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371600" y="2787480"/>
            <a:ext cx="6553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ical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publicans lost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litary operations in the South becam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too 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1872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the Freedman’s Bureau was dissol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ing in 1871, federal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troops were withdra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the So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ical Republican leader, Charles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umner di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187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04960" y="1339920"/>
            <a:ext cx="76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dical Republicans’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failure to convict President John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uring his impeachment trial signaled the beginning of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380600" y="2286000"/>
            <a:ext cx="437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The end of Re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4"/>
          <p:cNvSpPr/>
          <p:nvPr/>
        </p:nvSpPr>
        <p:spPr>
          <a:xfrm>
            <a:off x="838080" y="1447920"/>
            <a:ext cx="75819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143000" y="16477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preme Court decisions gave more powe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 the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914400" y="2743200"/>
            <a:ext cx="72388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laughterhous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The Court restricted the scope of the 14</a:t>
            </a:r>
            <a:r>
              <a:rPr b="0" lang="en-US" sz="2000" spc="-1" strike="noStrike" baseline="30000">
                <a:solidFill>
                  <a:srgbClr val="0033cc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Amend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873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has national rights but it was up to the state to choose how to define the rights for those who lived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876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e process and equal protection clauses only protected citizens from the actions of the state, not other citiz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C:\Documents and Settings\Shelly\Local Settings\Temporary Internet Files\Content.IE5\PNLN44RF\MCj02925760000[1].wmf"/>
          <p:cNvPicPr/>
          <p:nvPr/>
        </p:nvPicPr>
        <p:blipFill>
          <a:blip r:embed="rId1"/>
          <a:stretch/>
        </p:blipFill>
        <p:spPr>
          <a:xfrm>
            <a:off x="6202440" y="2057400"/>
            <a:ext cx="2789280" cy="135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 flipH="1" rot="5400000">
            <a:off x="2085840" y="3505320"/>
            <a:ext cx="1447920" cy="3124080"/>
          </a:xfrm>
          <a:prstGeom prst="upArrowCallout">
            <a:avLst>
              <a:gd name="adj1" fmla="val 25225"/>
              <a:gd name="adj2" fmla="val 25111"/>
              <a:gd name="adj3" fmla="val 38368"/>
              <a:gd name="adj4" fmla="val 50759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495680" y="2209680"/>
            <a:ext cx="3124440" cy="3962520"/>
          </a:xfrm>
          <a:prstGeom prst="rect">
            <a:avLst/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 the states gained more rights, southern whites worked to reduce the rights of African America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72000" y="2532240"/>
            <a:ext cx="28954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thern Democrats created a coalition of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deemers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o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ked together to “redeem” or reclaim the South from northerners and blac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 flipH="1" rot="5400000">
            <a:off x="2085840" y="1676160"/>
            <a:ext cx="1447920" cy="3124080"/>
          </a:xfrm>
          <a:prstGeom prst="upArrowCallout">
            <a:avLst>
              <a:gd name="adj1" fmla="val 25225"/>
              <a:gd name="adj2" fmla="val 25111"/>
              <a:gd name="adj3" fmla="val 38368"/>
              <a:gd name="adj4" fmla="val 50759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371600" y="281952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K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d viol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371600" y="449568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ur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d legal interpre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07:11Z</dcterms:modified>
  <cp:revision>219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